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3F2-27B0-4354-B72A-47B65C24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9C5-8E52-4991-B7B4-19E89500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EC9-255F-407D-9216-4C6D283E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05C-7A23-4069-94F0-F2DA3A76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17F-B8F7-4C45-9D98-F322BAE0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711-0A04-4078-AE14-8380E75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18E7-09A4-4481-8868-4AA5E095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006-06C1-4BB7-BACE-71ABA32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972-2B00-4112-80F9-C70DE5E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E4F-224C-4740-8205-C4741C77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E1FD-351C-403B-A2A4-0D36C66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E52-FDBE-4915-B5A9-FCEC739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FCAE-E9A7-465D-B91C-97102BB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3C49-0C7F-443D-ABDF-3DEBD53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BA9-5D9A-43D0-B7D5-5E0FA9A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BA6-A968-43D1-9684-574FFDA5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D4AD-0FC2-416D-8B53-8C1084EE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205-C648-4A14-A9B9-769674C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17F-7E10-468F-AFF0-446B4B1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F95-80E4-4177-B0B9-BE5E248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C89-DD88-4F53-BEB1-1B26DA4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6E9-D6DF-42CD-BFDC-E5FA291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690-772C-4101-BA3E-98B4C7C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2CF-8477-4C4E-B3A6-F3DB544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4406-AF53-45C3-A62E-2973E35C34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F800-926B-414E-AE95-853D100D8D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H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ng sources: 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with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ips for Quickfi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itles, pictur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al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google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seful Si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hatmattersfest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me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chann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.goog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w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esty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3 Step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duct research, follow the advice (and links) outlined in the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important step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typ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ly read and understand thos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- taking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What do I do when I have a source?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or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for importan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, underline, scribble in the margins, or use sticky notes to pick out what you ne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910120"/>
            <a:ext cx="8839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otation:  Making notes on you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-228600"/>
            <a:ext cx="599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seful Si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n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hatmattersfest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me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channe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.googl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urn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the topics you are interested in researching?  What do you already know?  What do you still need to find out?  Why did you choose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py H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s due next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chool till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esearch Paper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mary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mary source is an original document or account that is not about another document or account but stands on its 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Novel, play, diary, letter, interviews, research dat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ondary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ones that interpret primary sources or are otherwise a step remo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 journal article or book about a poem, novel, or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ernet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I do with an internet sou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source of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uthor name and date of pub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ernet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know if my source is rel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liable: discussion forums, blogs, or chatrooms for your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:  newspapers, encyclopedias, almanacs, and established publishing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title and aut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3:16:15Z</dcterms:created>
  <dc:creator>Tucker</dc:creator>
  <dc:description/>
  <dc:language>en-US</dc:language>
  <cp:lastModifiedBy>Tucker</cp:lastModifiedBy>
  <dcterms:modified xsi:type="dcterms:W3CDTF">2010-05-11T22:22:51Z</dcterms:modified>
  <cp:revision>4</cp:revision>
  <dc:subject/>
  <dc:title>Slide 1</dc:title>
</cp:coreProperties>
</file>